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0BB-158E-4530-8FA8-DAB3230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8F0-D339-4B2C-9155-69297A5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AE3-B9CC-4CBD-A68D-BBD85340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863-350D-4D39-AED9-C5352D89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54484-DD32-4FDB-B54C-1E2A75B5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F4DF3-484D-4528-869B-86AB149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9BEEF-C783-492C-AAEC-DE73234B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3313-1D9E-49EE-9256-C83A87B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B5CBF-23E5-4894-BBAE-1ADD665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BCED2-378B-4CCB-92E1-EC74AA74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5D819-C4D1-494E-A62E-56B78C7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AEF-9805-4C73-B812-81337D28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5F7B1-9EB4-43A6-B423-1E8BB49E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FB6D9-6407-4E0C-AB53-2D47C8D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7617-EB37-448A-AF5F-8BA7DECB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09D66-AC89-4B0C-939C-C9749119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5E542-53C6-409D-B7ED-989F7EC5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3623-DAEC-4F7F-A774-D145B452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6223-78BF-4F46-8A5E-5963C7C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AE6F-CF83-49E4-AB0C-7134F43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8ADE-FB29-45F2-8650-1B2B1DF5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16E1-0EE9-44B1-9475-BC8B67E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2F2-9870-4554-B5EA-AE39CEB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8448-E427-4377-BF0E-90F169AA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C2B5-4D92-4151-9E07-B416B68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8716-28C9-4CD3-88E3-8B1A01D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FCF5-8708-485A-AC6F-996E5F8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26E1-C259-4AFB-A781-C54C5B5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80A4-086A-4E44-87F6-48CA1E41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ACA6-ABA5-4AF6-8FD6-88ADC770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DD2C5-0E4A-4458-9792-7BCE3CCA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8113E-1FF8-4469-A23F-21462A40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36E44-60A1-422F-BBB1-EEBEC30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1A0-E032-4266-95B7-CB0F7E27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601E9-D072-4538-B2EE-4CC2FEB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BC3F2-7605-4B98-AEA2-D903FA89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5E5F0-CF1D-452E-B693-922E5908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7369E-AE0A-42F1-90E9-06C07C1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EBE57-FFD8-45A8-B549-9BAB8C6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DD0C31-B34B-4C2A-8A51-EC7127D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2EEE4-1937-4143-BEE0-2B95BACB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C8DAE-5928-4482-B4F3-A7718CE8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D6119-BFFE-4BDB-908D-C41A8715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671BE-590C-4CD4-AB0A-CC058F75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A5A-1FD4-4FED-91FB-2EA09CE2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4545C-6E42-47AA-BFB7-DA73CD9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39BAE-2DD2-490E-A2C8-8442BEE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32247-EF93-46FB-9905-D85222F2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CA19F-7793-4DD2-946A-5FEBDB40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2978E-D895-4D8C-9C46-3C2707AA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7273E-EB47-4DC1-AB1A-DEB25C2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24CFC-E90C-4F71-8B1C-99C73E9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A366C-454F-4A96-ACFE-EFF4EC7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49A5B-FF1B-4D88-9104-C00F7C0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B9F82-F999-48ED-95F2-0AB970AB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418-C0CD-4F58-BE48-9C20F441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08A9A-7CCE-4893-8333-0077C57A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74ACF-313D-4220-8D90-ACD75E59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E9195-02C4-446F-AE2B-9E1339BF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AED77-1210-4AA2-80A6-05973E74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01053-20C7-403F-B7B2-70E40A4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F4907-BF4C-40BD-A6A3-B894F1D8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74651-835D-4BA5-B451-C0C8C99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5E8BF-78AA-4FEE-8176-AE7BC9E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8EF34-728C-4F60-AC09-AA1465F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87E52-5F2A-43A8-8547-749D179D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DAE-887B-4B72-ABF9-54156BF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89C89-C42C-4BDF-96C5-920DA55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3D112-F2A3-4554-BBE4-27C92494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31D33-BC8C-4645-88A8-0EBEA5D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37C-7A89-4BD6-B7E9-D9FAB87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A38-C71D-4C03-9039-BF78ED8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C8C-CAF3-4466-A183-64122985B2C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1CFE-0DAC-404B-B2CD-9133DC85BE2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81E-8283-4FFC-9B70-C114C4EC7B5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E64-3571-4261-BCD3-236E9FE2E92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427-88DC-4A67-A6F5-B6B4E2D7DA0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72AB-EE8C-4C93-877D-08A99EEF2DA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3"/>
          <p:cNvSpPr/>
          <p:nvPr/>
        </p:nvSpPr>
        <p:spPr>
          <a:xfrm>
            <a:off x="228600" y="228600"/>
            <a:ext cx="8610480" cy="632448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EDUCA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1295280" y="1523880"/>
            <a:ext cx="6400800" cy="4038840"/>
          </a:xfrm>
          <a:prstGeom prst="ellipse">
            <a:avLst/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2895480" y="18288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STRUCTIONAL TECHNOLOG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895480" y="2743200"/>
            <a:ext cx="3124440" cy="1828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3048120" y="33526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ECHNOLOGY INTEG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01:31Z</dcterms:created>
  <dc:creator>Barsales</dc:creator>
  <dc:description/>
  <dc:language>en-US</dc:language>
  <cp:lastModifiedBy>Barsales</cp:lastModifiedBy>
  <dcterms:modified xsi:type="dcterms:W3CDTF">2012-07-10T13:04:10Z</dcterms:modified>
  <cp:revision>1</cp:revision>
  <dc:subject/>
  <dc:title>PowerPoint Presentation</dc:title>
</cp:coreProperties>
</file>